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83472"/>
        <c:axId val="79361537"/>
      </c:barChart>
      <c:catAx>
        <c:axId val="68183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61537"/>
        <c:crosses val="autoZero"/>
        <c:auto val="1"/>
        <c:lblAlgn val="ctr"/>
        <c:lblOffset val="100"/>
        <c:noMultiLvlLbl val="0"/>
      </c:catAx>
      <c:valAx>
        <c:axId val="79361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83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399-2EFB-405A-A4D5-E628F8CE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400-B128-49A7-89A9-5BCD38AA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F91-06FF-4681-8614-CAC0D8FF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816-4D2A-40F7-9D41-AEAF3B37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8F5-2E22-44CA-8DF3-F7EDA90C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BFB-C346-461C-BA33-B03C74B7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88E-4D02-405D-BFB3-56139E92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B17-B789-49D9-8777-98E83316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E37-766A-46D6-8CAD-C530676F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217-8CD6-4AFE-BAEF-D0B1CB9A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310-72C2-4EC1-9E68-D5DAA80D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AE3-7269-416D-A5F3-0EB7B0D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1463B-E454-4523-BF7F-BE15887EEA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