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9235"/>
        <c:axId val="85758724"/>
      </c:barChart>
      <c:catAx>
        <c:axId val="57469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58724"/>
        <c:crosses val="autoZero"/>
        <c:auto val="1"/>
        <c:lblAlgn val="ctr"/>
        <c:lblOffset val="100"/>
        <c:noMultiLvlLbl val="0"/>
      </c:catAx>
      <c:valAx>
        <c:axId val="85758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9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59B-3344-41CA-B48F-10B132E2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72F-5915-46BB-BC01-44DB58B6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70D-6EAA-4A97-8DA3-656B3DE8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8F3-BF9C-4319-977D-F9124C76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0E3-0082-45D9-9B46-8E73969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1DA-97F5-496D-BC5C-38B680D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244-FAA0-4D2C-94C1-2468CF8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D3C-8097-4453-89E3-44A7A7E0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EB1-6601-4688-9472-EA8F0C7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33E-7D7D-4845-A552-4BEA9F1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BE2-5390-4A9F-AA78-A004877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12D-9DE4-4C3E-9BA0-ACC8804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F2B8B-0E8F-4DA5-BA9E-F8FD98AEB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