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64556"/>
        <c:axId val="472461"/>
      </c:barChart>
      <c:catAx>
        <c:axId val="54164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61"/>
        <c:crosses val="autoZero"/>
        <c:auto val="1"/>
        <c:lblAlgn val="ctr"/>
        <c:lblOffset val="100"/>
        <c:noMultiLvlLbl val="0"/>
      </c:catAx>
      <c:valAx>
        <c:axId val="472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64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36D-28F7-47B1-864B-2CFE722B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1D4-89AA-461C-B399-C1988965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9EB-D5D7-43C1-AC0A-D81EBE52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A76-4526-498A-B4E6-845FB636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AB0-76C8-41F1-A88B-8C62B21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3E0-E6B9-4A35-937C-FECD2D6F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AA7-06C8-4ED8-90FC-35FF2565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536-887A-4C54-AB25-A767894B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702-3F81-483D-8776-E7AB69CC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385-1BED-4A4E-81AC-97EB21C3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51B-6FE8-427A-A513-39D9B3C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6E2-E026-49B9-881B-92FFA5A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F93F-4879-474C-89E9-B680746C5A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