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911379"/>
        <c:axId val="69299956"/>
      </c:barChart>
      <c:catAx>
        <c:axId val="889113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99956"/>
        <c:crosses val="autoZero"/>
        <c:auto val="1"/>
        <c:lblAlgn val="ctr"/>
        <c:lblOffset val="100"/>
        <c:noMultiLvlLbl val="0"/>
      </c:catAx>
      <c:valAx>
        <c:axId val="692999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113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E0F8-234A-4E4D-A20F-ADB92D38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33FD-62A5-4627-8381-2613B039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D424-645A-4D19-B1E1-7BDC498D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25B7-64A1-4CA3-98EF-05E4B58E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8E11-848E-415D-93BE-08242130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FAFE-DEDB-4675-BF18-B5AF8CB6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5EE1-8068-44F9-8A05-16DDB4C0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1F4D-AE73-48FA-9F9E-1DAEF0E1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59F6-493C-40FB-A1A3-88C86981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E4A7-EE00-4A2C-BBC8-4103A07D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28F2-2251-4F96-92CB-F37ADB74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F74D-7BE4-40CC-B2FD-A7B0AAAD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17F8F-E9F6-4B1D-A952-EC8515D2CF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