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10326"/>
        <c:axId val="49716124"/>
      </c:barChart>
      <c:catAx>
        <c:axId val="132103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16124"/>
        <c:crosses val="autoZero"/>
        <c:auto val="1"/>
        <c:lblAlgn val="ctr"/>
        <c:lblOffset val="100"/>
        <c:noMultiLvlLbl val="0"/>
      </c:catAx>
      <c:valAx>
        <c:axId val="49716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103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40EB-0A75-49DA-ADCE-310E1607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4A49-586D-4CF7-84C3-8C613DD8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C89-ED67-40A3-ADFD-CFEB27CE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1DA-D418-416C-9E8E-D7A3DFF1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C7D-AEB5-4395-A91E-B4CBC2EC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B61-404A-49CF-B4D5-574935EE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D3F-A40F-4FBF-8DF0-A78A7F50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8405-A0DD-442B-AC62-AAFA0C97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E719-7ED2-4EB1-BC4F-E406BEE3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E4E-44A5-4895-AF19-F562F2F0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9295-D41B-48A8-A755-15FC63EA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152-E794-4620-A558-7731A619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60F9E-C8C8-4D54-A0AC-99F70573F1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