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385461"/>
        <c:axId val="80847663"/>
      </c:barChart>
      <c:catAx>
        <c:axId val="413854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47663"/>
        <c:crosses val="autoZero"/>
        <c:auto val="1"/>
        <c:lblAlgn val="ctr"/>
        <c:lblOffset val="100"/>
        <c:noMultiLvlLbl val="0"/>
      </c:catAx>
      <c:valAx>
        <c:axId val="80847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854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DF41-E03B-4B19-9268-96A83F7E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73CF-E047-48A6-8586-9C05C424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7EBB-50FF-490B-896E-2F6C3170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E95F-5395-4266-AB35-EB523837A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A06A-0113-4449-BB20-BF5CDFBB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8A87-6E46-46EB-B47B-22DC24FA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46F5-CCED-411E-B745-EAC2923F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59A-DE2F-4CB3-9EEE-5DA6072B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48A-942C-4A78-B050-856296D3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AA5-C6C8-47CC-B9CF-E15E6FFA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51F-AA2D-4C17-81F8-1FE7FB95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4E0-CD34-46FA-9687-8AD2FD73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30148-63C9-4AEA-9EBA-079B5DBE8C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