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00329"/>
        <c:axId val="89097697"/>
      </c:barChart>
      <c:catAx>
        <c:axId val="43500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97697"/>
        <c:crosses val="autoZero"/>
        <c:auto val="1"/>
        <c:lblAlgn val="ctr"/>
        <c:lblOffset val="100"/>
        <c:noMultiLvlLbl val="0"/>
      </c:catAx>
      <c:valAx>
        <c:axId val="89097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00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9DF-8052-4A69-B89F-83D5A26C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A0C-8A71-4A85-A3CE-396D4ED1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D24-31D5-44E8-ACD9-648C05E0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F73-F839-4FEA-A996-9D89E644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F74-892B-4791-BF01-9ADEC36B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25D-D8F9-40AF-9233-3B58CCF3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0FC-438D-464D-98C5-D7E8FFC4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319-143F-45F6-8546-53AB5326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8CC-374D-4D4D-B460-241B6FC2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2B3-A2A2-4508-B9D3-08B6E36D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BDA-9ACF-49DF-BDC1-4C32B76C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804-F15A-4DF5-A48F-7CB4E7D9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171DA-DAE5-46C1-9CA9-721D743D87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