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89863"/>
        <c:axId val="56095647"/>
      </c:barChart>
      <c:catAx>
        <c:axId val="94989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95647"/>
        <c:crosses val="autoZero"/>
        <c:auto val="1"/>
        <c:lblAlgn val="ctr"/>
        <c:lblOffset val="100"/>
        <c:noMultiLvlLbl val="0"/>
      </c:catAx>
      <c:valAx>
        <c:axId val="56095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89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948-140B-4074-BA6E-6C9D2C1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799-01F4-4E02-A12F-A86E2BF2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384-B1B7-475C-9E3D-A727060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6B2-6B1C-4A1C-8A94-3E956202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B62-D48A-4813-BA09-DBC7B62B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212-E952-444C-A867-04A07307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710-4324-40EE-8B30-D05518E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CEC-44EE-40A2-AE30-9266234F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41B-3735-466E-A1B6-54F18C2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357-B5F1-4618-A0E6-B649808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A81-CCDB-4A48-804B-6600DA6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891-4A8D-49EB-82FA-63C3DB1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C7B5E-6638-4724-A13C-B723672180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