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89595"/>
        <c:axId val="62996739"/>
      </c:barChart>
      <c:catAx>
        <c:axId val="54389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96739"/>
        <c:crosses val="autoZero"/>
        <c:auto val="1"/>
        <c:lblAlgn val="ctr"/>
        <c:lblOffset val="100"/>
        <c:noMultiLvlLbl val="0"/>
      </c:catAx>
      <c:valAx>
        <c:axId val="62996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89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BA7-EC03-41D9-8546-96D62A9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112-E4E4-4AF6-A925-FB7BD1E6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A2E-D5FC-4226-8E7D-24E8C61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0C0-8879-471C-A91E-3D06F287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D0B-A915-4D85-8A6E-6D97DAD4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6B6-D579-4FEC-8C7B-88954AA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195-4199-4A83-BEE4-C71BFC2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861-4625-4C50-9997-D18483B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2B6-2E42-4865-91D5-F8A306BD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980-BE44-45B1-B6E7-F9FE558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5F7-EE73-44C7-985B-F70BFC0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211-8659-4AD8-993B-C8BBC98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5C35-2A1C-4CDB-A238-6C7BE734E3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